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jpeg" ContentType="image/jpeg"/>
  <Override PartName="/ppt/media/image1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6840-93A4-4AB9-8516-BF473176C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s of symmetry appear frequently in nature and could teach geometry in a variety of way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agram lines of symmetry on workshee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dentify lines of symmetry in the insects they classify and collec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ognize or rule out the possibility of symmetrical lines in leaves, trees, etc.</a:t>
            </a: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8618-895F-4C73-806F-65406B43A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C3EE-8940-45BF-8196-765E98CD8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3D4A7-E8FA-4417-9510-EEA4704813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3A9480EE-6572-4461-AE5A-5B4646DADD9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0E4F2D-CE0B-4CA5-A3A9-4BD4A24930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9C6AA3-E25F-4762-BFF8-2D3C59522D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A2BB6F-7547-4DD9-B076-5AD8052924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8E03FB-8A46-443E-B91A-F217689D74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2B6E4-B97D-4FD7-BE84-D64DA09AB0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F6F443-6A58-48E4-8E27-3235536F3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6B87DB-A8A6-4EFF-888B-BAB257CDE8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00F843-ED49-4B29-AB1F-35929EF776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5EACA4-D42C-49BB-8939-80D5DC56E9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6F589D-CC99-4255-9C9A-F50FF9F9D9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11EFF097-6203-4A48-A1A3-694F9C5DA6C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157B1B-1045-4270-9584-D8177227F5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D4C28D-F5D9-4AD2-A5F8-C59D7F5BAF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8A8F5B-EB8A-45A1-8B3F-58EB63AEB9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B21259-5581-44B7-9AE0-CCA0A6DC53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13C618-A942-45D5-A583-07BB37302F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87ECA1-5450-42CA-ADBE-3AC2B4CDD9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EBD832-AC37-4E5B-899A-B97294F252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E1BBB1-0BCA-49B0-B181-7913654BC5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924A35-69D6-4097-B147-583D3BCB33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4BC188-8636-4BDF-A146-27101D9C95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C448B071-2C20-4059-82A8-E965C63DAC2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18F6EB-97DC-4751-819B-161108375B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47A31D-1F7D-42A6-8116-C8735980DC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DDA02C-1D5E-421B-BD60-4E3B99FCE1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035943-BB42-47D2-9CF5-1BA5CAEFB6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D8C77B-AA44-41CE-9008-BCE905AA2D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36FA67-6FCE-4FC8-B890-3BE4D684EC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6903DA-604B-4332-A5EA-A036C851FC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404E55-1AC9-47A5-BB2D-CC45AC710F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86BDC2-C63E-46E9-BFE2-A9978DB444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D4305F-F3F3-40DC-AA38-37D206AF81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014630-83D9-4C6E-A405-14F07D2CCF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E20920-8D87-47ED-BC98-D3A1E2D6C2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4D72AA-B146-4BA4-BE13-B40C936F68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B7F7126-5C84-42E1-9D01-BAF40F7C8F4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96086C-1A3A-4407-BA0F-7A83056CE9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17A9FD-4D29-4C5C-944F-474E18717E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5C4FCA-C302-4989-8F5B-DFE33EBC66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F19483-548B-4476-A5FE-42F990C2F1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9553EC-3675-4C70-BB15-29A427B2A7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9D8B80-7146-4DEF-9763-5B5E8EEB50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56AFCD-F323-4790-8C8A-24D41D24F1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188C13DC-7271-4A73-A4E9-868116D49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E44749-BC71-4BAD-AD79-B63424F2A7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8336D8-4BC1-43CF-8585-5626BA47A9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1C87FA-89DA-443B-9143-F70E55F4EC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F456F2-816B-4DAC-B9D1-D1DA14EB3A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A03E3F-F64A-448E-B10C-4CCA791A85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9F0A6D1C-704C-4B5D-A84A-19641B7C6E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55A5FF6F-E49D-4937-8398-C447DC980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7EA65D52-89EF-49C6-9EB1-CD7652532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FF788D58-F4AC-4E40-8DE9-0ECC73683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8F632822-8674-44D2-A850-8AC3AE65F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7621FE3F-37A6-4324-97F0-1B5FB974FC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0FB00B15-6E2C-4B16-97C5-3D657A1355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4026BF4E-57C1-4CFF-A0F8-F64651480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17924C43-D371-45B2-883F-883108F28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34CC6B84-4682-48D1-AEC3-993013B326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15D799E0-FF0F-46EB-9AF0-692A64AAB5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28A48-DB62-4870-8DD5-2CA4D616D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198A3-3121-4588-8E72-94C7C3111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E998E-028A-45D4-85C1-E06A19179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0277E-03B3-47FF-A135-8C3EDF1E7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383CA-3CB8-4DDC-A0A8-00EA4B973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49CCB8C2-5763-4DE4-B258-F4C4DC54941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8937E-5267-4301-8AA5-AB110C352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D4796-09F4-428C-B9EF-97FD4FF57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C3C6B-73EF-4BFD-A94F-7F8820F44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8C379-C93A-4519-B3EE-7C7BDA810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F4F66-0A73-4A3A-90F1-E424403CF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80F78-93C7-45CC-AE0D-091E79420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EA3AE-EB30-4B03-8269-5D0EF392D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3DDAF1-C63A-4592-AF41-695B65EADD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1B690A-2857-409A-A1F4-C48FF85C48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E0C9C-26D8-44C6-BE72-84474CA3FF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8D019703-737D-4A94-9924-51B1B0CCB46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8AD82F-42DA-4C89-972D-9ABB05E4BA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6053B3-976F-4445-86A6-4CFD0F7A0E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D934F0-8052-49C3-9189-332A88AC12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B1888-E461-4778-8BCD-F8538B1BE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B91C03-B2BD-4163-A679-323A2C485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50F7C-1804-4A3F-8322-6ACAF9EA0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464655-84AE-4D9F-A114-1B0AC7C2E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5CCF27-CFE7-4147-8049-E785C47319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183014-DF90-459F-AAEF-9089B71471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42878F-D693-489E-87F2-6247F2A1A2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EE0BD07B-BEA9-4E6D-9EA7-750442DC650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43FA7-3869-455A-9448-0060FC53C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72F338-62FC-4169-A697-9A9F8E55DE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100CB7-4F2A-4711-BC4C-15C44F134E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72DD0F-B328-41E4-8228-8A37B62D96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6E253E-CB35-4853-B770-C8895D296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36AA37-6FDB-4F11-906F-ABAC0ABB6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1587C-88F2-46AF-AC2E-C72F2CE7CC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7115C-0D2B-4039-8AA5-A8224E7CF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1ACD0F-254F-453A-9A32-1057079988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214E93-AA76-4D3B-B87D-20AECC5170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DFC011C5-B27F-4A3C-AC11-EA20D4841C4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E0389C-B01F-4D2D-B36B-38A23E0E5B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3ECA56-D5AB-4FCD-8EBC-07612EDAEA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B13D83-9D66-4FB5-ABD7-6E23198B31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DD31C5-EEE3-422A-BF31-15FBB2DBE2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7E97EA-26C7-4218-918E-F7CF2F0DEA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DB6070-1E49-463E-81F4-925F1142BB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DE4E77-F88D-407D-8072-D6E74AD263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F62C7F-2E3C-4165-ABFA-3A9B4574C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39D6EA-7C0F-44B6-BC46-0B20B1540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95B813-F39E-4DFD-89E3-D526E25439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AB103DD3-B8C4-415A-B367-8CAE0A255E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E2118A-8C18-4B9A-A29E-82C0D2D07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8FCDC2-B970-4F29-81AA-ED89FE3B9A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EF2E66-D5AC-40F2-AB44-C67D3F96C9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CC8F9F-3C89-4C07-998C-8D77DC8879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66E554-6D55-4332-B421-FD46610E54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A1A592-BD39-4D1C-9F26-E218B9E5DA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B03F01-B9C3-47C8-BD1F-FA485774A2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969FFF-608A-4FEE-9222-BE0D86831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7E6EF7-3B34-435C-A7C8-7DDAE46DC3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694170-E522-40A1-8F6F-AC8585ED7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62DFC8A6-1B2C-46AC-ACCA-4C2F5504F0A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73ADC-BFCE-4C95-B08F-F249E54A63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29C578-B008-4A66-8461-3D04A8677C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B21AAE-2E49-4302-A579-BBC3B3CA1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DC15F2-62A4-4F81-9236-C9148DF9C2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0EF01A-261D-4122-88BF-FECEDEC45B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AB24AD-EBAA-4220-A322-A12D41AB99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54BA76-731E-4776-B703-AC82074941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1D5034-9D4F-4D5E-ADBB-9747EF2E7D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197BA1-F5EC-41EE-B01C-DBA5B3DB05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0BA12B-6273-4D8F-A184-8671B65643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1984F797-EB2F-4AAA-993A-6B62096D370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8D7EE3-DFB4-4BA8-8E08-B1AB4524E3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C6606-E7F3-4851-84EB-8CFE43BF52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FDA32-08C2-4069-BD7E-0778AC121E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91E07D-DBFC-4FC8-BC42-02641D22E0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9AE96F-6B25-4906-8154-B08B0D5408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6FFACA-1B1E-4965-99E1-85AD5A1C6C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0ED0D5-15C2-41B4-AA7F-2F8B9C1BBC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932F13-B68C-4E39-AF78-8EA5A6B737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661EE8-F58D-4A5E-804F-F25DBC51AA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BF3E15-3E09-4F9B-8517-0E06E3D7CF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3FB0-5178-4644-A4CA-BE49EA1829D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0A61-F330-4AA7-B1D0-24624FC2240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D2AD-6D0A-4945-9893-99785F5CA0D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EFD3-D640-4E9E-A390-493D0A95FCE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F43D-7F5D-46BB-A609-A63EFA0AD95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80D1-2B96-45BB-A8FD-839242F5CBB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3694-2E0C-475A-B0C8-74D21C179DCD}"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1318-7D0F-4461-90C2-514D6C0BBE3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66B9-7818-4052-B888-B810B418B55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3AC5-D95C-45A3-AA8E-E9FD98B433D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092B-ED58-4499-BAC2-FEAE3EC5BE5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8719-8C60-4BE9-99D7-F25DF2B4E67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denimpine.com/documents/pine_beetle_web1.jpg" TargetMode="External"/><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denimpine.com/documents/pine_beetle_web1.jpg" TargetMode="External"/><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5</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pinning butterflies for their collection. How many lines of symmetry does this Monarch Butterfly have?</a:t>
            </a:r>
            <a:endParaRPr b="0" lang="en-US" sz="2800" spc="-1" strike="noStrike">
              <a:solidFill>
                <a:srgbClr val="4e3b30"/>
              </a:solidFill>
              <a:latin typeface="Verdana"/>
            </a:endParaRPr>
          </a:p>
        </p:txBody>
      </p:sp>
      <p:pic>
        <p:nvPicPr>
          <p:cNvPr id="578" name="Picture 6" descr="See full size image"/>
          <p:cNvPicPr/>
          <p:nvPr/>
        </p:nvPicPr>
        <p:blipFill>
          <a:blip r:embed="rId1"/>
          <a:stretch/>
        </p:blipFill>
        <p:spPr>
          <a:xfrm>
            <a:off x="3495600" y="3537000"/>
            <a:ext cx="2143080" cy="164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0"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One line of symmetry. The insect can be divided into two congruent (matching) halves if a line is</a:t>
            </a:r>
            <a:br>
              <a:rPr sz="2800"/>
            </a:br>
            <a:r>
              <a:rPr b="0" i="1" lang="en-US" sz="2800" spc="-1" strike="noStrike">
                <a:solidFill>
                  <a:srgbClr val="4e3b30"/>
                </a:solidFill>
                <a:latin typeface="Verdana"/>
              </a:rPr>
              <a:t>drawn down the midsection.</a:t>
            </a:r>
            <a:br>
              <a:rPr sz="2800"/>
            </a:br>
            <a:r>
              <a:rPr b="0" i="1" lang="en-US" sz="2800" spc="-1" strike="noStrike">
                <a:solidFill>
                  <a:srgbClr val="4e3b30"/>
                </a:solidFill>
                <a:latin typeface="Verdana"/>
              </a:rPr>
              <a:t>This is bilateral symmetry.</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There are not two lines of symmetry because a horizontal line does not split the insect into two congruent sides.</a:t>
            </a:r>
            <a:endParaRPr b="0" lang="en-US" sz="2800" spc="-1" strike="noStrike">
              <a:solidFill>
                <a:srgbClr val="4e3b30"/>
              </a:solidFill>
              <a:latin typeface="Verdana"/>
            </a:endParaRPr>
          </a:p>
        </p:txBody>
      </p:sp>
      <p:grpSp>
        <p:nvGrpSpPr>
          <p:cNvPr id="581" name="Group 12"/>
          <p:cNvGrpSpPr/>
          <p:nvPr/>
        </p:nvGrpSpPr>
        <p:grpSpPr>
          <a:xfrm>
            <a:off x="6981480" y="4952880"/>
            <a:ext cx="1781640" cy="1162080"/>
            <a:chOff x="6981480" y="4952880"/>
            <a:chExt cx="1781640" cy="1162080"/>
          </a:xfrm>
        </p:grpSpPr>
        <p:pic>
          <p:nvPicPr>
            <p:cNvPr id="582" name="Picture 6" descr="See full size image"/>
            <p:cNvPicPr/>
            <p:nvPr/>
          </p:nvPicPr>
          <p:blipFill>
            <a:blip r:embed="rId1"/>
            <a:stretch/>
          </p:blipFill>
          <p:spPr>
            <a:xfrm>
              <a:off x="7105680" y="4952880"/>
              <a:ext cx="1514520" cy="1162080"/>
            </a:xfrm>
            <a:prstGeom prst="rect">
              <a:avLst/>
            </a:prstGeom>
            <a:ln w="0">
              <a:noFill/>
            </a:ln>
          </p:spPr>
        </p:pic>
        <p:cxnSp>
          <p:nvCxnSpPr>
            <p:cNvPr id="583" name="AutoShape 20"/>
            <p:cNvCxnSpPr/>
            <p:nvPr/>
          </p:nvCxnSpPr>
          <p:spPr>
            <a:xfrm flipH="1">
              <a:off x="6981480" y="5525280"/>
              <a:ext cx="1782000" cy="1080"/>
            </a:xfrm>
            <a:prstGeom prst="straightConnector1">
              <a:avLst/>
            </a:prstGeom>
            <a:ln w="28440">
              <a:solidFill>
                <a:srgbClr val="000000"/>
              </a:solidFill>
              <a:miter/>
            </a:ln>
          </p:spPr>
        </p:cxnSp>
      </p:grpSp>
      <p:grpSp>
        <p:nvGrpSpPr>
          <p:cNvPr id="584" name="Group 25"/>
          <p:cNvGrpSpPr/>
          <p:nvPr/>
        </p:nvGrpSpPr>
        <p:grpSpPr>
          <a:xfrm>
            <a:off x="7095960" y="2057400"/>
            <a:ext cx="1514520" cy="1619640"/>
            <a:chOff x="7095960" y="2057400"/>
            <a:chExt cx="1514520" cy="1619640"/>
          </a:xfrm>
        </p:grpSpPr>
        <p:pic>
          <p:nvPicPr>
            <p:cNvPr id="585" name="Picture 6" descr="See full size image"/>
            <p:cNvPicPr/>
            <p:nvPr/>
          </p:nvPicPr>
          <p:blipFill>
            <a:blip r:embed="rId2"/>
            <a:stretch/>
          </p:blipFill>
          <p:spPr>
            <a:xfrm>
              <a:off x="7095960" y="2257200"/>
              <a:ext cx="1514520" cy="1162080"/>
            </a:xfrm>
            <a:prstGeom prst="rect">
              <a:avLst/>
            </a:prstGeom>
            <a:ln w="0">
              <a:noFill/>
            </a:ln>
          </p:spPr>
        </p:pic>
        <p:cxnSp>
          <p:nvCxnSpPr>
            <p:cNvPr id="586" name="AutoShape 19"/>
            <p:cNvCxnSpPr/>
            <p:nvPr/>
          </p:nvCxnSpPr>
          <p:spPr>
            <a:xfrm>
              <a:off x="7887960" y="2057400"/>
              <a:ext cx="1080" cy="1620000"/>
            </a:xfrm>
            <a:prstGeom prst="straightConnector1">
              <a:avLst/>
            </a:prstGeom>
            <a:ln w="2844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discussing the insect Emerald Ash Borer. They examine images of trees that have been damaged by the beetle. How many lines of symmetry does the infested ash tree have?</a:t>
            </a:r>
            <a:endParaRPr b="0" lang="en-US" sz="2800" spc="-1" strike="noStrike">
              <a:solidFill>
                <a:srgbClr val="4e3b30"/>
              </a:solidFill>
              <a:latin typeface="Verdana"/>
            </a:endParaRPr>
          </a:p>
        </p:txBody>
      </p:sp>
      <p:pic>
        <p:nvPicPr>
          <p:cNvPr id="589" name="Picture 12" descr="Emerald Ash Borer and &quot;D&quot; Shaped Pupal Chambers"/>
          <p:cNvPicPr/>
          <p:nvPr/>
        </p:nvPicPr>
        <p:blipFill>
          <a:blip r:embed="rId1"/>
          <a:stretch/>
        </p:blipFill>
        <p:spPr>
          <a:xfrm>
            <a:off x="6122880" y="358128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None. There are no lines that can be drawn on the tree to create two congruent (similar) sides. Emerald Ash Borers do not follow a certain pattern when they bore into ash trees. Therefore, the</a:t>
            </a:r>
            <a:br>
              <a:rPr sz="2800"/>
            </a:br>
            <a:r>
              <a:rPr b="0" i="1" lang="en-US" sz="2800" spc="-1" strike="noStrike">
                <a:solidFill>
                  <a:srgbClr val="4e3b30"/>
                </a:solidFill>
                <a:latin typeface="Verdana"/>
              </a:rPr>
              <a:t>path created will not have</a:t>
            </a:r>
            <a:br>
              <a:rPr sz="2800"/>
            </a:br>
            <a:r>
              <a:rPr b="0" i="1" lang="en-US" sz="2800" spc="-1" strike="noStrike">
                <a:solidFill>
                  <a:srgbClr val="4e3b30"/>
                </a:solidFill>
                <a:latin typeface="Verdana"/>
              </a:rPr>
              <a:t>lines of symmetry.</a:t>
            </a:r>
            <a:endParaRPr b="0" lang="en-US" sz="2800" spc="-1" strike="noStrike">
              <a:solidFill>
                <a:srgbClr val="4e3b30"/>
              </a:solidFill>
              <a:latin typeface="Verdana"/>
            </a:endParaRPr>
          </a:p>
        </p:txBody>
      </p:sp>
      <p:sp>
        <p:nvSpPr>
          <p:cNvPr id="592"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3" name="Group 34"/>
          <p:cNvGrpSpPr/>
          <p:nvPr/>
        </p:nvGrpSpPr>
        <p:grpSpPr>
          <a:xfrm>
            <a:off x="5866920" y="3352680"/>
            <a:ext cx="2591280" cy="3277080"/>
            <a:chOff x="5866920" y="3352680"/>
            <a:chExt cx="2591280" cy="3277080"/>
          </a:xfrm>
        </p:grpSpPr>
        <p:pic>
          <p:nvPicPr>
            <p:cNvPr id="594" name="Picture 12" descr="Emerald Ash Borer and &quot;D&quot; Shaped Pupal Chambers"/>
            <p:cNvPicPr/>
            <p:nvPr/>
          </p:nvPicPr>
          <p:blipFill>
            <a:blip r:embed="rId1"/>
            <a:stretch/>
          </p:blipFill>
          <p:spPr>
            <a:xfrm>
              <a:off x="6133680" y="3581280"/>
              <a:ext cx="2057760" cy="2743560"/>
            </a:xfrm>
            <a:prstGeom prst="rect">
              <a:avLst/>
            </a:prstGeom>
            <a:ln w="0">
              <a:noFill/>
            </a:ln>
          </p:spPr>
        </p:pic>
        <p:cxnSp>
          <p:nvCxnSpPr>
            <p:cNvPr id="595" name="AutoShape 27"/>
            <p:cNvCxnSpPr/>
            <p:nvPr/>
          </p:nvCxnSpPr>
          <p:spPr>
            <a:xfrm flipH="1">
              <a:off x="7161840" y="3352680"/>
              <a:ext cx="1080" cy="3277440"/>
            </a:xfrm>
            <a:prstGeom prst="straightConnector1">
              <a:avLst/>
            </a:prstGeom>
            <a:ln w="28440">
              <a:solidFill>
                <a:srgbClr val="000000"/>
              </a:solidFill>
              <a:miter/>
            </a:ln>
          </p:spPr>
        </p:cxnSp>
        <p:cxnSp>
          <p:nvCxnSpPr>
            <p:cNvPr id="596" name="AutoShape 28"/>
            <p:cNvCxnSpPr/>
            <p:nvPr/>
          </p:nvCxnSpPr>
          <p:spPr>
            <a:xfrm>
              <a:off x="5866920" y="4952520"/>
              <a:ext cx="2591640" cy="1440"/>
            </a:xfrm>
            <a:prstGeom prst="straightConnector1">
              <a:avLst/>
            </a:prstGeom>
            <a:ln w="28440">
              <a:solidFill>
                <a:srgbClr val="000000"/>
              </a:solidFill>
              <a:miter/>
            </a:ln>
          </p:spPr>
        </p:cxn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describing mountain pine beetle infestation and are learning to properly indentify and classify the insect. They recognize the lines of symmetry that exist within the Order Coleoptera.</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w many lines of symmetry</a:t>
            </a:r>
            <a:br>
              <a:rPr sz="2800"/>
            </a:br>
            <a:r>
              <a:rPr b="0" lang="en-US" sz="2800" spc="-1" strike="noStrike">
                <a:solidFill>
                  <a:srgbClr val="4e3b30"/>
                </a:solidFill>
                <a:latin typeface="Verdana"/>
              </a:rPr>
              <a:t>does the mountain pine beetle</a:t>
            </a:r>
            <a:br>
              <a:rPr sz="2800"/>
            </a:br>
            <a:r>
              <a:rPr b="0" lang="en-US" sz="2800" spc="-1" strike="noStrike">
                <a:solidFill>
                  <a:srgbClr val="4e3b30"/>
                </a:solidFill>
                <a:latin typeface="Verdana"/>
              </a:rPr>
              <a:t>have?</a:t>
            </a:r>
            <a:endParaRPr b="0" lang="en-US" sz="2800" spc="-1" strike="noStrike">
              <a:solidFill>
                <a:srgbClr val="4e3b30"/>
              </a:solidFill>
              <a:latin typeface="Verdana"/>
            </a:endParaRPr>
          </a:p>
        </p:txBody>
      </p:sp>
      <p:sp>
        <p:nvSpPr>
          <p:cNvPr id="59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9" descr="See full size image">
            <a:hlinkClick r:id="rId1"/>
          </p:cNvPr>
          <p:cNvPicPr/>
          <p:nvPr/>
        </p:nvPicPr>
        <p:blipFill>
          <a:blip r:embed="rId2"/>
          <a:stretch/>
        </p:blipFill>
        <p:spPr>
          <a:xfrm>
            <a:off x="6553080" y="3419640"/>
            <a:ext cx="1362240" cy="153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2"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One line of symmetry. Drawing one bilateral line creates two congruent (similar) sides.</a:t>
            </a:r>
            <a:endParaRPr b="0" lang="en-US" sz="2800" spc="-1" strike="noStrike">
              <a:solidFill>
                <a:srgbClr val="4e3b30"/>
              </a:solidFill>
              <a:latin typeface="Verdana"/>
            </a:endParaRPr>
          </a:p>
        </p:txBody>
      </p:sp>
      <p:sp>
        <p:nvSpPr>
          <p:cNvPr id="60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4" name="Group 11"/>
          <p:cNvGrpSpPr/>
          <p:nvPr/>
        </p:nvGrpSpPr>
        <p:grpSpPr>
          <a:xfrm>
            <a:off x="6553080" y="3200400"/>
            <a:ext cx="1362240" cy="1930680"/>
            <a:chOff x="6553080" y="3200400"/>
            <a:chExt cx="1362240" cy="1930680"/>
          </a:xfrm>
        </p:grpSpPr>
        <p:pic>
          <p:nvPicPr>
            <p:cNvPr id="605" name="Picture 9" descr="See full size image">
              <a:hlinkClick r:id="rId1"/>
            </p:cNvPr>
            <p:cNvPicPr/>
            <p:nvPr/>
          </p:nvPicPr>
          <p:blipFill>
            <a:blip r:embed="rId2"/>
            <a:stretch/>
          </p:blipFill>
          <p:spPr>
            <a:xfrm>
              <a:off x="6553080" y="3419280"/>
              <a:ext cx="1362240" cy="1532880"/>
            </a:xfrm>
            <a:prstGeom prst="rect">
              <a:avLst/>
            </a:prstGeom>
            <a:ln w="0">
              <a:noFill/>
            </a:ln>
          </p:spPr>
        </p:pic>
        <p:cxnSp>
          <p:nvCxnSpPr>
            <p:cNvPr id="606" name="AutoShape 2"/>
            <p:cNvCxnSpPr/>
            <p:nvPr/>
          </p:nvCxnSpPr>
          <p:spPr>
            <a:xfrm>
              <a:off x="6562080" y="3200400"/>
              <a:ext cx="1211040" cy="1931040"/>
            </a:xfrm>
            <a:prstGeom prst="straightConnector1">
              <a:avLst/>
            </a:prstGeom>
            <a:ln w="28440">
              <a:solidFill>
                <a:srgbClr val="000000"/>
              </a:solidFill>
              <a:miter/>
            </a:ln>
          </p:spPr>
        </p:cxn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learning to recognize insect damage in various plants. While viewing healthy and infested pictures of leaves, they note the lines of symmetry that exist. </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w many lines of symmetry are there in healthy leaves and in infested leaves?</a:t>
            </a:r>
            <a:endParaRPr b="0" lang="en-US" sz="2800" spc="-1" strike="noStrike">
              <a:solidFill>
                <a:srgbClr val="4e3b30"/>
              </a:solidFill>
              <a:latin typeface="Verdana"/>
            </a:endParaRPr>
          </a:p>
        </p:txBody>
      </p:sp>
      <p:pic>
        <p:nvPicPr>
          <p:cNvPr id="609" name="Picture 24" descr="http://www.bugfolks.com/wp-content/uploads/2008/08/the-beggar-caterpillar-damage-on-violet-leaf.jpg"/>
          <p:cNvPicPr/>
          <p:nvPr/>
        </p:nvPicPr>
        <p:blipFill>
          <a:blip r:embed="rId1"/>
          <a:stretch/>
        </p:blipFill>
        <p:spPr>
          <a:xfrm>
            <a:off x="5257800" y="4495680"/>
            <a:ext cx="1914480" cy="1552680"/>
          </a:xfrm>
          <a:prstGeom prst="rect">
            <a:avLst/>
          </a:prstGeom>
          <a:ln w="0">
            <a:noFill/>
          </a:ln>
        </p:spPr>
      </p:pic>
      <p:pic>
        <p:nvPicPr>
          <p:cNvPr id="610" name="Picture 27" descr="See full size image"/>
          <p:cNvPicPr/>
          <p:nvPr/>
        </p:nvPicPr>
        <p:blipFill>
          <a:blip r:embed="rId2"/>
          <a:stretch/>
        </p:blipFill>
        <p:spPr>
          <a:xfrm>
            <a:off x="1609560" y="4495680"/>
            <a:ext cx="2200320" cy="154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2"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Healthy leaves have one line of symmetry. Leaves that have been damaged by insects have no lines of symmetry because of the holes that have been created.</a:t>
            </a:r>
            <a:endParaRPr b="0" lang="en-US" sz="2800" spc="-1" strike="noStrike">
              <a:solidFill>
                <a:srgbClr val="4e3b30"/>
              </a:solidFill>
              <a:latin typeface="Verdana"/>
            </a:endParaRPr>
          </a:p>
        </p:txBody>
      </p:sp>
      <p:pic>
        <p:nvPicPr>
          <p:cNvPr id="613" name="Picture 24" descr="http://www.bugfolks.com/wp-content/uploads/2008/08/the-beggar-caterpillar-damage-on-violet-leaf.jpg"/>
          <p:cNvPicPr/>
          <p:nvPr/>
        </p:nvPicPr>
        <p:blipFill>
          <a:blip r:embed="rId1"/>
          <a:stretch/>
        </p:blipFill>
        <p:spPr>
          <a:xfrm>
            <a:off x="5257800" y="4495680"/>
            <a:ext cx="1914480" cy="1552680"/>
          </a:xfrm>
          <a:prstGeom prst="rect">
            <a:avLst/>
          </a:prstGeom>
          <a:ln w="0">
            <a:noFill/>
          </a:ln>
        </p:spPr>
      </p:pic>
      <p:grpSp>
        <p:nvGrpSpPr>
          <p:cNvPr id="614" name="Group 9"/>
          <p:cNvGrpSpPr/>
          <p:nvPr/>
        </p:nvGrpSpPr>
        <p:grpSpPr>
          <a:xfrm>
            <a:off x="1609560" y="4267080"/>
            <a:ext cx="2200320" cy="1975320"/>
            <a:chOff x="1609560" y="4267080"/>
            <a:chExt cx="2200320" cy="1975320"/>
          </a:xfrm>
        </p:grpSpPr>
        <p:pic>
          <p:nvPicPr>
            <p:cNvPr id="615" name="Picture 27" descr="See full size image"/>
            <p:cNvPicPr/>
            <p:nvPr/>
          </p:nvPicPr>
          <p:blipFill>
            <a:blip r:embed="rId2"/>
            <a:stretch/>
          </p:blipFill>
          <p:spPr>
            <a:xfrm>
              <a:off x="1609560" y="4495680"/>
              <a:ext cx="2200320" cy="1543320"/>
            </a:xfrm>
            <a:prstGeom prst="rect">
              <a:avLst/>
            </a:prstGeom>
            <a:ln w="0">
              <a:noFill/>
            </a:ln>
          </p:spPr>
        </p:pic>
        <p:cxnSp>
          <p:nvCxnSpPr>
            <p:cNvPr id="616" name="AutoShape 19"/>
            <p:cNvCxnSpPr/>
            <p:nvPr/>
          </p:nvCxnSpPr>
          <p:spPr>
            <a:xfrm flipH="1">
              <a:off x="2371320" y="4267080"/>
              <a:ext cx="733680" cy="1975680"/>
            </a:xfrm>
            <a:prstGeom prst="straightConnector1">
              <a:avLst/>
            </a:prstGeom>
            <a:ln w="28440">
              <a:solidFill>
                <a:srgbClr val="000000"/>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Natural Resources students identify lines of symmetry that exist in n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Natural Resources—NR4.3</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gnize insect types and available controls to prevent insect infestation.</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lassify insects into their proper family groups. </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gnize damage created by insects by observing various examples of infestation. </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iscuss emerald ash borer.</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escribe mountain pine beetle infestatio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9-12.G.2.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ble to reflect across vertical or horizontal lines and translate two-dimensional figur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lines of symmetry.</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 line of symmetry divides a figure into two congruent halv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ongruent means similar, matching, or fitting.</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w to find lines of symmetry:</a:t>
            </a:r>
            <a:endParaRPr b="0" lang="en-US" sz="2800" spc="-1" strike="noStrike">
              <a:solidFill>
                <a:srgbClr val="4e3b30"/>
              </a:solidFill>
              <a:latin typeface="Verdana"/>
            </a:endParaRPr>
          </a:p>
          <a:p>
            <a:pPr lvl="1" marL="914400" indent="-5144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Look for midpoints in the shape.</a:t>
            </a:r>
            <a:endParaRPr b="0" lang="en-US" sz="2400" spc="-1" strike="noStrike">
              <a:solidFill>
                <a:srgbClr val="4e3b30"/>
              </a:solidFill>
              <a:latin typeface="Verdana"/>
            </a:endParaRPr>
          </a:p>
          <a:p>
            <a:pPr lvl="1" marL="914400" indent="-5144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Use a ruler to draw a straight line through the estimated midpoint.</a:t>
            </a:r>
            <a:endParaRPr b="0" lang="en-US" sz="2400" spc="-1" strike="noStrike">
              <a:solidFill>
                <a:srgbClr val="4e3b30"/>
              </a:solidFill>
              <a:latin typeface="Verdana"/>
            </a:endParaRPr>
          </a:p>
          <a:p>
            <a:pPr lvl="1" marL="914400" indent="-5144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old the shape in half to see if both sides match. If they do, it is a line of symmetry.</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 rectangle has two lines of symmetry because there are two ways to divide the shape into two congruent halves. A square has four lines of symmetry because there are four ways to divide the shape into two congruent halves. A regular pentagon has five lines of symmetry.</a:t>
            </a:r>
            <a:endParaRPr b="0" lang="en-US" sz="2800" spc="-1" strike="noStrike">
              <a:solidFill>
                <a:srgbClr val="4e3b30"/>
              </a:solidFill>
              <a:latin typeface="Verdana"/>
            </a:endParaRPr>
          </a:p>
        </p:txBody>
      </p:sp>
      <p:pic>
        <p:nvPicPr>
          <p:cNvPr id="566" name="Picture 33" descr="http://staff.kings.edu/kdils/StudentWork/LoriJ/lesson_1_files/symmetric%20rectangle.png"/>
          <p:cNvPicPr/>
          <p:nvPr/>
        </p:nvPicPr>
        <p:blipFill>
          <a:blip r:embed="rId1"/>
          <a:stretch/>
        </p:blipFill>
        <p:spPr>
          <a:xfrm>
            <a:off x="1447920" y="4879800"/>
            <a:ext cx="1285920" cy="1285920"/>
          </a:xfrm>
          <a:prstGeom prst="rect">
            <a:avLst/>
          </a:prstGeom>
          <a:ln w="0">
            <a:noFill/>
          </a:ln>
        </p:spPr>
      </p:pic>
      <p:pic>
        <p:nvPicPr>
          <p:cNvPr id="567" name="Picture 30" descr="http://staff.kings.edu/kdils/StudentWork/LoriJ/lesson_1_files/symmetric%20square.png"/>
          <p:cNvPicPr/>
          <p:nvPr/>
        </p:nvPicPr>
        <p:blipFill>
          <a:blip r:embed="rId2"/>
          <a:stretch/>
        </p:blipFill>
        <p:spPr>
          <a:xfrm>
            <a:off x="4002120" y="4879800"/>
            <a:ext cx="1282680" cy="1281240"/>
          </a:xfrm>
          <a:prstGeom prst="rect">
            <a:avLst/>
          </a:prstGeom>
          <a:ln w="0">
            <a:noFill/>
          </a:ln>
        </p:spPr>
      </p:pic>
      <p:pic>
        <p:nvPicPr>
          <p:cNvPr id="568" name="Picture 39" descr="http://staff.kings.edu/kdils/StudentWork/LoriJ/lesson_1_files/symmetric%20pentagon.png"/>
          <p:cNvPicPr/>
          <p:nvPr/>
        </p:nvPicPr>
        <p:blipFill>
          <a:blip r:embed="rId3"/>
          <a:stretch/>
        </p:blipFill>
        <p:spPr>
          <a:xfrm>
            <a:off x="6553080" y="4879800"/>
            <a:ext cx="1225800" cy="129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0"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re are shapes that have no lines of symmetry. Here are some examples:</a:t>
            </a:r>
            <a:endParaRPr b="0" lang="en-US" sz="2800" spc="-1" strike="noStrike">
              <a:solidFill>
                <a:srgbClr val="4e3b30"/>
              </a:solidFill>
              <a:latin typeface="Verdana"/>
            </a:endParaRPr>
          </a:p>
        </p:txBody>
      </p:sp>
      <p:pic>
        <p:nvPicPr>
          <p:cNvPr id="571" name="Picture 42" descr="http://staff.kings.edu/kdils/StudentWork/LoriJ/lesson_1_files/symmetric%20no%20no's.png"/>
          <p:cNvPicPr/>
          <p:nvPr/>
        </p:nvPicPr>
        <p:blipFill>
          <a:blip r:embed="rId1"/>
          <a:srcRect l="0" t="0" r="59190" b="0"/>
          <a:stretch/>
        </p:blipFill>
        <p:spPr>
          <a:xfrm>
            <a:off x="1219320" y="3276720"/>
            <a:ext cx="1523880" cy="1047600"/>
          </a:xfrm>
          <a:prstGeom prst="rect">
            <a:avLst/>
          </a:prstGeom>
          <a:ln w="0">
            <a:noFill/>
          </a:ln>
        </p:spPr>
      </p:pic>
      <p:pic>
        <p:nvPicPr>
          <p:cNvPr id="572" name="Picture 42" descr="http://staff.kings.edu/kdils/StudentWork/LoriJ/lesson_1_files/symmetric%20no%20no's.png"/>
          <p:cNvPicPr/>
          <p:nvPr/>
        </p:nvPicPr>
        <p:blipFill>
          <a:blip r:embed="rId2"/>
          <a:srcRect l="46940" t="0" r="36740" b="0"/>
          <a:stretch/>
        </p:blipFill>
        <p:spPr>
          <a:xfrm>
            <a:off x="4076640" y="3276720"/>
            <a:ext cx="609840" cy="1047600"/>
          </a:xfrm>
          <a:prstGeom prst="rect">
            <a:avLst/>
          </a:prstGeom>
          <a:ln w="0">
            <a:noFill/>
          </a:ln>
        </p:spPr>
      </p:pic>
      <p:pic>
        <p:nvPicPr>
          <p:cNvPr id="573" name="Picture 42" descr="http://staff.kings.edu/kdils/StudentWork/LoriJ/lesson_1_files/symmetric%20no%20no's.png"/>
          <p:cNvPicPr/>
          <p:nvPr/>
        </p:nvPicPr>
        <p:blipFill>
          <a:blip r:embed="rId3"/>
          <a:srcRect l="67350" t="0" r="0" b="0"/>
          <a:stretch/>
        </p:blipFill>
        <p:spPr>
          <a:xfrm>
            <a:off x="6019920" y="3276720"/>
            <a:ext cx="1218960" cy="104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studying the insect Order Lepidoptera (butterflies). They review how to determine lines of symmetry. Then they use their geometry skills to identify the symmetrical portions of the insect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5:38:20Z</dcterms:modified>
  <cp:revision>29</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45746928</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vt:lpwstr>
  </property>
</Properties>
</file>